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559-4031-47D8-9061-71890932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FE4-1468-45BF-ABDA-AB18C7EA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B4CE4-CAF4-4945-8CEA-37D040FE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F8A4F-D601-41DB-AF83-5B6CF8D8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297BB-C983-4425-8B8C-C9BA1698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64E2B-C7A0-4FC4-B0BF-B122C02D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763AA-D7B1-4D90-92B6-FA137B9D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D5EA0-E751-4FD4-AD70-7F5185E0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2BEDF-5ABE-4F42-953C-2270791F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34BF8-DB85-4B37-8F3A-54994168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C10C5-ADD7-43E3-9536-86C7CC5F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73C03-6C5A-4943-B3D8-0F668620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D40-13F2-4469-AC1A-4DEA9E4B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A3FDA-7ED0-42CC-BED8-32F19BA5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F18CB-B75B-4720-A0B2-8727DD64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471AB-9EDA-446F-849F-40D01755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C60B1-A5CB-4327-81BB-8370EAE6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36531-0D8E-49FD-BA67-A415488F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D8F2C-2DEA-4154-82F7-1265BE9E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E6971-16D4-4002-B312-445466A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DA1F1-AD3C-4426-AD8B-899BD7EE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D9F7F-0A3D-4CFB-8949-0555F0D7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B56E9-14F5-468A-99B7-60AE3BB8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83C-38D4-400D-A77F-D0E1EAB1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F3390-D8B5-4EAE-813F-40FBCEE7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D54B2-D113-4F42-A8C6-3D5F150A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C0C0B-463C-4251-84DD-4D42E7B3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85113-5D42-4AC0-80D0-536813FF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51900-9E96-4FE8-97CB-181D2E12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DF604-8635-40C6-ACCE-6CA40AB7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628A2-E7A4-4AF9-960F-1B57F51F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F8E11-68D8-41CF-9C15-4EF359DF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CBF89-1367-4394-8ABB-C0FC4A1A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7F17F-B63B-4533-8D54-456C2218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A191-4DB5-4E11-8B85-AE275B58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C20B9-C95D-4F6D-A203-67EEEE4C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B072E-8D6F-46EB-B922-F3FDE99B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90BC9-57A2-41BC-822E-B2DC54C0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5CD93-6F86-4102-9267-099BB59B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72A82-4B3F-49AE-9AC5-7EC54E53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3709A-96FA-47DE-B968-785F6122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90DA6-6191-40D8-88A9-A6F343EF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5E871-8ED5-4ED1-850A-4CAC6233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C4A9D-093F-43C3-BCD0-131619E7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4A1F4-0686-4668-BD48-399D19F2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300F-AFB8-4453-8ECA-CD3E1B18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7C91D-94AA-4796-B980-951B4906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D1803-D335-43A9-A2B2-FC2D1F99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1D039-0D4E-4B37-9B7F-4A1F6788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6071B-F9DE-4464-A946-7324969C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21105-8A92-4CC9-9A7C-8F696B38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33E1F-7994-42F8-8DC5-DA98B9C2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1EA45-5B13-4ACD-A941-B3B0D20F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CC991-9AC1-4DE2-A16E-8B6803D7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1E4C5-3D54-46E7-BF9B-C30FD875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8E645-1343-4E30-8E01-310DDC58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B86E-B71D-43B2-BFCC-0F793DFB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FA9F5-0A28-4D07-A9AF-912ABC31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526DE-5D69-459B-8B3D-7A8D24BC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B74F8-6413-46C4-8BEB-D9D80C98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CAA48-A900-4A52-A7D3-78F346B4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F5D9D-F8A3-4D68-A0A2-22B9778D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C7265-E357-4F17-8067-288B64D8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F2E36-2955-4407-87A3-ABD1FF41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2E4D2-7EF5-48B7-9600-756E9923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9925A-FBF2-4EAC-B780-6CDB46C2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3A931-5507-48C0-81E9-ED3CCDD1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4D1C-914D-46C5-B6A7-027BD1B9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65FF9-F2DC-491D-91D5-D728E6C4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2377E-CF5A-4CAD-8ED9-F92D9275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CBB26-70C0-4FD5-9CD5-EF51F5B4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11A16-E142-4517-8E97-09ED3F6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291C8-D001-4FB1-B37B-D73BDE0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C68FB-E598-46AE-BA5D-67282B51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7A874-6B26-44D6-805F-8BE6E4E3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88610-012A-454B-85EC-32D253D9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31A51-441A-4AD5-B73A-ECEED02C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2EA47-9F94-4524-946C-752D0B9B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9E02-64A1-4571-9A86-15EDE859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27B62-520E-449F-AD2E-713DDEF8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363E3-CC4A-47F8-A73F-9DFE61CA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FD851-5C18-45DA-AD65-20838134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1DDCDA-5CC1-4F81-B00F-28BF7205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B712F-1D09-437D-8927-62B2973D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F0574-9BDB-470C-A752-110A99DE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F8E4C-B7AF-406D-BC11-558D3280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2857E-9279-4481-91F5-E620096D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3534B-FD8C-4BAB-949C-BE4B6545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72FDD-9F8D-4C8B-9F14-40132DD1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5872-545B-414C-A90E-BFD29A38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7267F-819A-4EEE-949D-58316E4D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DCFBB9-5D5F-4509-9C1E-77891813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912FA-C381-44F1-A81F-F39E6890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19143-78DF-42BD-8882-49C9BC52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383AB-E051-41B9-804B-4BFB0A95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6977A-DB0D-418C-8B46-0C49491E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ED3FA-D387-43EE-BD51-95BD5FDB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282D20-54BC-4C98-B020-AC8AC20E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D5613-8B36-4B14-BD4D-7BCD0D1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8E9663-360F-48E8-BA19-A386043A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EB49-7F63-4168-8833-6E7B4A49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2EA68-5D50-40A9-B44B-165B983F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08C77-FF71-4053-A76E-31DB61EE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55F15-DF68-4F87-BBBE-17B9FF4E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D19B6-5ACC-4BCE-953E-CCBE3747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67F407-AC50-4BA3-9C3D-26B027CD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7E3FD-1BDE-4E95-B9A9-3740F202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E58C62-04F5-4961-B13C-ED322F2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D570F-9C24-47FD-A392-1EE43CF6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A15056-F98B-4794-B7FE-A67D5069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12180-E61A-4D33-B8F5-13FAEF13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05A-7F34-468A-BD6F-4324ECA2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1D18-4B84-4351-9568-2FA27127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1116EF-994B-42AE-A02A-078DE167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5DB68-B0D1-46C7-A982-A087C12D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DCBD5-CD12-4061-BE05-0C997A4B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45456-400C-47BA-97E7-37D73379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75E92-1D2F-4129-ADE6-A7569C4C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7ACA44-14C3-4B93-A88D-9BB31A1F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8FBC88-0C93-41B2-872F-521830E9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D8DEF-A3AE-407D-B71F-ABE0B489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8DB7C-73FC-477C-B5E5-595E8F88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330E2-3636-4838-AF00-6E36E1A9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AEBC-CCA7-4F76-9C75-FF4782C5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05C50-0F3B-45A5-B51A-7F69050C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D3EF0-27F4-473B-B9B0-259742D4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709115-091E-4144-83D8-AE411F24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99F82-F8F2-4B50-A318-729B2AB7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BF4E6-74EA-4AD4-B353-AA21B8A8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72236-B301-446B-B1BD-A8AD3809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27BB2F-E824-4776-A311-50BD4162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C1A9E5-A621-4136-95F3-263169A0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8FBCF-D237-40B4-90A7-ED606761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7C8BDE-340D-4E3B-8FBE-2F896154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CF80-1225-42A5-A7B5-2AA22095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D4975A-5FB6-441A-8C1C-4CBEA62A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166B65-3A53-44E6-9938-4B768BBF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340C18-0B1B-4BDA-B89D-0E43FE73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33514-3E37-4E2B-AC05-A1944C9C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59091-6078-44EC-A46A-B98CF116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63ADED-04AB-4720-A45E-51F27A99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CF4241-19F2-420A-AA14-85090719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517D0A-3AA2-482D-A482-4138D454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005382-2FF3-496F-97D3-0F6FA1F3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360A18-A1F1-44B1-88F5-B2DB5D26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BCB8-28F7-4C51-BCC1-63376775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85DF47-1176-4191-B008-78A58720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9E6F72-95D7-4A1C-9592-24BD43CE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05D57-6C60-4356-A578-6BECB5E2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F60D5B-8643-4F84-B679-901F5E0B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EF40A2-B046-424F-94A5-68089E48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ED4D5E-8548-4A4D-8A01-970413B8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D8CEAB-CB75-4007-913C-95A087E7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D1E25D-2C9C-4756-A7E2-DBAD06D3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A6070-646B-43F5-B8EB-517D61D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E10E85-C037-4C6F-895E-789FE7F1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0BC1-C57D-4362-B971-DA92F642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E4F6B2-EC25-4630-AACA-0EB488E9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CE287-2F13-4E74-9E66-704D99D3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2B9B15-F2B8-4DEE-A401-3CCB3020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F1AAB9-4B83-4527-9340-9112A7EA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47D38-7DA3-4746-9983-DABE7F08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57CD75-A14D-49C4-AD24-389DE721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D2ED59-CAB3-4433-BCEC-637A9168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70D902-D230-4055-A51F-4731044E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00DF4-5D6D-4330-903A-96BA1365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9F71BF-A116-46E9-9615-9B6CF2A2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3DE1-8E9D-44A8-A866-F5C81A1A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4A2611-F5F1-4DC8-823B-011A9818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5DE256-A13F-4A95-A386-39760E9D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66FB23-BAA4-4DF8-95C3-A585BFEB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44732-5FDA-42A7-A26D-451F4D54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A92E-2F2D-4184-8F35-1A732E1B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B8F74-BBA4-4669-BFC9-CE7645F2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01558-D483-4D4D-B8A1-F4BE14BC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31A-75C2-46C7-9BA1-6C8AA5E4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E922-F0FC-40EE-B578-1812B757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7429C-A60F-43B2-97DF-D776197B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9F93C-8ADE-4FEF-A957-9F3A82B9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7386-5F9A-48D8-BA96-C25C6B67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B4FC-BFA2-4C22-B87C-59968D70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F3A18-4E19-41CA-A01A-F4EE91DF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8B36-30B2-46C0-99D5-D27D6758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33C5-97B6-404D-9D55-9E38CED0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4A64-17B1-468A-990E-EF2B5D8E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00BBD-90AE-4115-BB6A-C4A94832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9DC-17DA-49F2-9FA1-8832FA4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F3A2-0542-4E18-9662-3B9A4CBE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D889-A18F-492B-94A4-E7A987BB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DF0F-16C9-43B1-8A9A-254B49AB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AC4D5-5D0E-4478-9ABA-AE2F3DE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F2215-C318-4746-8B5E-04991F4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B9FC3-FF56-4344-AE30-BB9CBCE4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1255C-9DE1-43F0-B781-EE5E8F54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98F69-EB34-494B-8E8A-7022709B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47A9A-20A3-489C-9A36-36DC5F43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3B388-FA00-4E33-8052-02DE490E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448-9CCA-47EC-84DE-C1F461D6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EEFC1-EDEF-4A13-A616-97E4D5FB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C61D2-C311-4D06-81BC-211649CC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B09F8-9CA4-4DC4-ACD0-08972B66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5B072-7B94-464B-B129-2F52CCA9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7FCC9-3115-4FEE-AF3D-8C6C66D0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084AD-8B9D-4544-B93B-168DDBED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ACD70-9088-4F2E-B1B8-2FE07C57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A6BD6-D29E-4B93-AEBE-6FF80ABC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EE4D4-2AFD-4980-8000-77704894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3920-7596-4569-BACA-8E082BA4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B3A-5462-48F8-8E58-39BAF08A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A4C9-0E2A-447E-8718-8E9E8B0E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F87E-AD33-4822-92B2-B6F09B75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B49FA-8F50-46FD-BAD8-BF9B02B8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26C5F-5A5E-4B01-90C7-0A4E02C0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91DB4-A8A5-47C9-88F7-7158B1F1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0D9A1-2730-4368-AA47-0B1424D6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80E02-6833-44A7-A484-E7EE8BB3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3A68B-A220-4F02-B71F-29ED2A1B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A7D0F-C625-498B-B4DB-297586BE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61BF0-18C2-4369-9FDE-6418EAF0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41C-F2CF-4A6F-8A83-730853EC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3BA22-E0D6-444F-BBDE-0A2942C4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817BA-1000-4428-838A-203EE453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4808D-B53A-4C50-8E8A-F3CACED4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70F36-6397-4D3A-BB58-1C9E631F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07569-3A65-426E-83C1-75DF9329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2D021-EBBE-4684-A34C-E4C5B3D4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3EB4B-3BEF-4A8B-A932-C6719E65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C8B0F-23AC-4A8C-B376-C97B09A5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579F5-30C6-42C3-8C53-D328C493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90FAF-A36B-4059-986C-7339FFAA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BE4-72C5-4FE6-B4ED-A51FD2BA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AAFED-67D1-46EC-8927-E00F49F5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6CF2C-5D08-42A5-8580-2144787B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3D81E-C16D-4F0A-862F-23A83EAC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7B4C2-841A-4F22-94C4-35D80494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6A98D-FA2A-4D56-BE6A-46E7BB2E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C73D1-7FCA-4676-A942-24C943C3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9985B-45A2-4CC7-9F83-FAD80120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7156E-2B2E-413B-93E7-69249603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9C9DE-5F7F-4A28-B0E1-F5C67FC5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C7ADA-9113-4492-9792-3B66D0BE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739-235C-4AF1-98E6-87C9949D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2B87B-E361-45E8-A6FA-0B3F49E9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E326A-3E80-462B-8C29-EEBF722D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91695-1271-4801-8319-690231C2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EE424-8352-44CE-8A06-186C5C97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6D7C4-A4CF-4F54-9633-B2D2524B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981CE-7351-4D43-A145-88850B79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F73CA-1831-4A36-A4EE-5EE7B9D8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BD9EA-6261-4D4E-B101-2E23D6AB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92AEB-C8E7-41E7-A75B-BBB14F8D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7AA66-4B16-44E9-93DD-F1AEE1C3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BA7B-336E-4504-A3AD-E9A6A6A323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7E6D-7707-40BA-AF59-4168483487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F32B-2AF4-4C32-99C7-F6F7231FED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1192-63A2-45C1-81A2-ED49FCD785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3986-67B6-4DE4-9A29-2A3D275B9D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8E16-BC07-40DE-A893-1E4B03BE42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3C6E-2FB9-404A-994C-32D46F54CB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DED1-739A-4CA1-924D-49F5F42481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24BB-8883-4093-9A2C-D3B13742EB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54AD-615B-4DA3-A2DD-0F8DCB6EF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F7C4-0FA8-474F-BAFE-D8F3B8F477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F991-5227-4847-86AF-5A8879AD69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1E3A-6247-4EFE-9695-7F181EEED0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E111-1F86-4DCF-A6F3-9D8A85C367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87DB-932A-4BFD-BB2C-F353F409E0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29AE-E64B-41FF-A387-F8AC8BFF18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5AB4-90C0-4F12-9DAA-F52598738C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E442-46C5-44BA-A443-A44C83990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5AC4-A36E-4459-8E93-50CC6D5E4B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3A95-DC83-4E2E-93A2-9F40BA8C76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D2F2-C309-411D-93B4-D8C4249630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793C-F311-47DD-AE78-18983CA9EE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260D-321E-42A5-BD25-E9E37470DD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02C2-DC09-42B4-B9C3-2843F3B346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466C-9DA4-44E6-ABDA-4EF9C48494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F49C-A7D9-4219-B06C-510AB0EA30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2718-E2A2-4DB3-A003-AC4E93368C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806C-6DA4-417A-A92F-701D30F5EC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73A7-E080-405D-8755-0D7DCED705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FC0B-C875-4829-8B34-1B9D620E9A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FD1B-3BD8-45CA-A9EB-D36FD18CBC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F8C4-86F6-4AF0-AB03-DAB1775F76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8483-EC7B-4668-9B05-1A831F5776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0CA8-CC96-4FAA-8A83-333FF9841A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C98D-45AD-4B34-A19E-547FF6952A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002F-2B9A-4948-AA3F-C823E74489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F6CB-CD8D-4914-A075-0C541DBDF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E7EF-2770-4FF9-96A0-8A869CBFC8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24B7-CB80-4429-9346-D58333815A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015A-CE83-4842-A748-E7CB3234C2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09680" y="2933640"/>
            <a:ext cx="6524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52440" y="601560"/>
            <a:ext cx="8439120" cy="6067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851280" y="2781360"/>
            <a:ext cx="273672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511344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635280" y="4105440"/>
            <a:ext cx="511344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708360" y="4797360"/>
            <a:ext cx="511344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635280" y="5445000"/>
            <a:ext cx="511344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55640" y="6194520"/>
            <a:ext cx="6840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642960" y="976320"/>
            <a:ext cx="7858080" cy="4905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266400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2987640" y="1714680"/>
            <a:ext cx="576108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2843280" y="2421000"/>
            <a:ext cx="5761080" cy="9367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2843280" y="3573360"/>
            <a:ext cx="576108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2843280" y="4292640"/>
            <a:ext cx="576108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684360" y="4998960"/>
            <a:ext cx="75596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790560" y="1243080"/>
            <a:ext cx="7562880" cy="4371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4140360" y="1512720"/>
            <a:ext cx="324000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4284720" y="2190600"/>
            <a:ext cx="424800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424800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4211640" y="3573360"/>
            <a:ext cx="424800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4211640" y="4292640"/>
            <a:ext cx="424800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826920" y="4911840"/>
            <a:ext cx="6913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7352" descr=""/>
          <p:cNvPicPr/>
          <p:nvPr/>
        </p:nvPicPr>
        <p:blipFill>
          <a:blip r:embed="rId1"/>
          <a:stretch/>
        </p:blipFill>
        <p:spPr>
          <a:xfrm>
            <a:off x="285840" y="890640"/>
            <a:ext cx="8572320" cy="55627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55640" y="3127320"/>
            <a:ext cx="489600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755640" y="4481640"/>
            <a:ext cx="489600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770040" y="5143680"/>
            <a:ext cx="576108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684360" y="5891040"/>
            <a:ext cx="576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276120" y="687240"/>
            <a:ext cx="8591760" cy="59817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331164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504000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468360" y="4451400"/>
            <a:ext cx="504036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539640" y="5013360"/>
            <a:ext cx="50403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539640" y="5589720"/>
            <a:ext cx="504036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755640" y="6164280"/>
            <a:ext cx="6337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266760" y="782640"/>
            <a:ext cx="8610480" cy="58863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116000" y="2722680"/>
            <a:ext cx="4751280" cy="907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900000" y="3774960"/>
            <a:ext cx="453564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684360" y="4379760"/>
            <a:ext cx="453528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684360" y="4941720"/>
            <a:ext cx="4535280" cy="493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55640" y="5589720"/>
            <a:ext cx="453564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684360" y="6165720"/>
            <a:ext cx="4535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4276" descr=""/>
          <p:cNvPicPr/>
          <p:nvPr/>
        </p:nvPicPr>
        <p:blipFill>
          <a:blip r:embed="rId1"/>
          <a:stretch/>
        </p:blipFill>
        <p:spPr>
          <a:xfrm>
            <a:off x="266760" y="119160"/>
            <a:ext cx="8610480" cy="66196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900000" y="3889440"/>
            <a:ext cx="5472360" cy="493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84360" y="4522680"/>
            <a:ext cx="5472000" cy="4939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826920" y="5086440"/>
            <a:ext cx="547236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11280" y="5719680"/>
            <a:ext cx="5472000" cy="493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611280" y="6280200"/>
            <a:ext cx="6481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52231" descr=""/>
          <p:cNvPicPr/>
          <p:nvPr/>
        </p:nvPicPr>
        <p:blipFill>
          <a:blip r:embed="rId1"/>
          <a:stretch/>
        </p:blipFill>
        <p:spPr>
          <a:xfrm>
            <a:off x="561960" y="1386000"/>
            <a:ext cx="8020080" cy="4086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8135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3:2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